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9.jpeg" ContentType="image/jpe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0513-922F-4EB6-829F-3E13D4A8E6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13A5-AD55-4607-B9ED-77DD59B0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4352FC-1762-4B8F-A5CA-EDE2272D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4D6051-8136-4789-8363-3141A89C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ED0109-E0A2-45CF-AB82-E4E94E82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8720EF-0A06-4A28-BFF4-617A533F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F35077-AD3F-42C1-8921-F2F35F25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023EF4-80F2-41EA-831A-909FFD18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7971C5-70B5-44AD-9E04-25EA8BFB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A8C86B-1EB2-488D-A9E4-0C21B32E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8134C3-EB44-4447-B67B-756F27C581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1980-498F-4A57-8176-87C7DFFDCF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6792-6FC7-458A-8A04-1EE17E8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BAF9B-563E-49A6-88A3-D6B6B70D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2AD71-4528-4670-86B5-C431B82B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0EB0-2F84-4DD0-B0D8-412D76FA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EC180-DC8C-4B7E-A755-07A9E122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D56AF-E9F0-48BD-B749-C3772DF0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B809C-B761-4799-AC10-A1586A41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8C29A-4C6D-48CE-9EF0-213A3CE5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BA612-75A8-4AA5-8BC6-68518DF4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047AB-6F76-4EB2-9D66-A9F17792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91E52-A4D8-42BA-983C-743D4EEE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C1FA-8CBE-40FF-AD7E-FFE04B28A6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D6126-35CC-497C-9964-EC6FA1249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E131B4-9CDF-4665-B628-1760C18395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C2FD09-603B-4FEE-BF98-9FBBA9BC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6FA897-7228-4AE5-B92A-26BED2DA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C7F5E-799B-465B-A696-17ACA4D2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45F40F-8CB0-475D-8429-510362D8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1B0671-08CA-47AF-B2FF-1C86F707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5030C5-FF25-4279-9833-03CCD3E1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A969F-855D-4B8A-81C0-0F9F82E8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434A13-EFBA-4169-9E18-39A8FE97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F9F3B-15D9-4208-9D42-2FACDEBC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0D5CE4-C9DE-4F2D-9857-3921E79F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71E3F-2425-4EC7-805D-65D45F7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BEFE01-D3EB-46C4-8B3D-7682D3FA2E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23B26-CD66-4ECE-A0BB-EFB2E99AA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EDBC7-A930-4BFB-88EC-C927008F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A384C-71C3-4B44-A328-4D236F75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04636-D772-4956-8B2D-5D3EDAAD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E1107-6BEF-45EF-9B0D-284DA9D3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7EF20-092C-4CC2-9B00-A1F8E471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1F634-9138-4D8C-B3AF-7A10F436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34B77-983E-41DC-9C13-095E23D1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D2E06-6FDE-407F-B70F-4374C263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3970A-0230-476A-8821-04C9DA6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2DD39-DD14-4FDF-BF61-E4AC4E63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5F332-6CA6-489C-99E3-3E4B132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19EA7-FA69-4DB8-ABD6-0530E4134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9D9D4-1AEB-4B45-AD92-82882543D3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63787-92DC-4BF5-9303-EE03F206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0B466-90F1-46B0-B0CE-477083E9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CA3A6-7EBC-4D9C-B941-418456D1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AE034-3D60-4DD2-8D44-6867AB57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45615-FC65-49FA-AE84-4AF78E0B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E55BA-4301-471F-8AC3-61D7736A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7FCC0-0DC3-4160-83CB-EAADC985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3571A-5FD6-4D33-B2A3-87D8AEA2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5A1B2-2F64-4522-8F47-E881D843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6FE84-9105-4874-95F3-B941E2BE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7686F-6480-4D39-9334-B2D0CEC7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B7ADC-74E2-4960-98B9-695D64953D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296C4-17BF-4548-AF38-D6FD42D8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05125-04D7-40DD-A951-BE3FF404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73EE4-3DAD-43EF-97DD-B7BCFE1A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4177F-ADEA-4CFF-9959-5495620D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CB1E1-167F-4F51-BD93-C2580199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25A32-BE47-43F9-A6F0-98108B41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E95C0-5159-4235-8DCA-53CC70F5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8FC79-A810-44E5-9228-12D9B0D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56A62-836F-4AFC-B391-A767FFB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2C6A3-B7AB-4AC3-B3C3-C14570D4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E8CBF-F712-40E7-BA1D-69EB6F8E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4A541-FE9B-46DD-A03E-C13FC32A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7C934-CFD4-4E60-A1A0-08465E46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1713D-D3A4-4EDA-BC46-2A27B5A7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E93B4-E113-4F21-86D5-99A50A5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7E0B5-7789-4B51-AE76-14A89682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D7AD7-0A44-46FA-A0B4-8E7F37AB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39120-0602-466C-ADE9-571BB931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52DC9-CEB7-429A-8B5F-7684E9B0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00A87-030E-4F0E-8619-BE011429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ADDF9-8611-4E3D-B2CB-1CBE4D89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96C83-07A7-4384-A06B-9232A80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B07A7-6ED1-4380-8897-2403AEA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EF50D-8BFD-406E-BFFB-A0482E29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6EBBB-7E80-4EAE-98E2-75F1562E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6A951-1975-4A76-873A-EDF869AC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CE97F-F990-4789-8F3D-3420B8D9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ADA3C-428E-4C37-B7B6-1C361905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CE247-0B40-4CCE-A16D-85D03D43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58AA5-DE4F-4E0B-9B8F-121653A0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1FBFA-EE4A-4E94-AA80-E5BA44D7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B537E-77B0-482E-BA64-784F262D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DA0AA-D4DA-48A2-88D3-27A3E1DA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E28FA-3863-497D-B61B-98E4C67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5EE5C-5452-46B6-B6B3-854FA975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A9473-A6F1-4E21-9C0D-9E969772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5AD85-D52E-4AEF-9599-D924B8A3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44B6E-9E1E-403B-8537-53347EAA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E1978-48BE-496E-A20D-A183561C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B9FD5-BE05-4366-9A0F-A350CF37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27212-D237-4535-8E25-0010B836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212A3-4DDD-4DD7-8429-D2652377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D851A-FC70-4AC1-9596-43411B1E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2D262-8CDA-4B5C-94C4-6A6C0A62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D7654-0B25-4385-A972-D184E183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832C6-5304-4B1F-ACB9-8DDC4B63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F410E-AC8C-4579-A26E-42FE88CD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35C5-A6A4-4A63-9EC9-18FCD44A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3DE2F-4B5E-4482-A858-62F41E74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EC171-4841-4AAC-80A6-4C4AAD21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E4CB9-B7E6-40E5-83AE-4429F46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93303-C15B-4023-8135-55A7DA03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A87E0-8956-41FC-8477-0992DE20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28762-4E82-48CB-989D-5F0BA6AB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65857-A3B3-4434-BFBB-AA2734EB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B1B4A-35B0-43BA-8589-936C1289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767EB-89AE-4ACA-B63E-AD6BC262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D02D5-9CC7-4436-A28B-A8DD9CF2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B6136-F954-449F-91A9-2B9EADBF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637B3-733F-453A-9D4D-414ED92C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928AF-0A42-4961-95EF-9BE8C5E0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FFBAA-8B3B-431A-B11F-B06B6AD4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8EA35-7BED-499F-8AEC-08CC2FD8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8C236F-128E-484A-9BA3-71B6046C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1DFCC-5C60-4D83-B8DE-B730AB86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AAFEE-D31D-457F-8770-67381AF6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F7CA5-F87C-496A-B2D5-D86A7DC9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06B01-93CA-42FC-8A92-7C7A3FD0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4623E1-51A1-48F3-B7AB-66A59495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1614FC-744A-4F95-8236-FDDE851D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3DC39-3F78-43BE-80A2-1463571F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6928B-4189-4399-9AA1-AE7B4E20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6DE27-D23B-47E2-BA9F-377B43AC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B77C0-F565-450E-B5A4-69F82650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5C4FF-E897-4BF1-98E7-1270E2B0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93E7B-FF5F-48E3-AD3A-ED9F3551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4857A-C9D6-490C-BD59-1B1661CF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852E8-BBD6-4CC2-BF07-1D46C0E8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FFEFE-14F9-4E35-B750-7733CD8A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408E0-1A90-42F4-87F7-BA16775D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55B71-C399-4A92-8755-10F3AE20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A7E8E-2F68-4EBE-B9AD-BFFCF06A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1C0E1-189F-4A96-97C3-B040F27C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8EFE8-1374-4DFD-ABEE-79D6D62E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3314C-84AA-4600-A4DD-65C5DABE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DF59A-6802-4F94-9611-150E8C6D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AB249-AE72-404C-BA01-500B6F5F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8F2CBB-F266-4437-BF8F-692FA04F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539AF-DF34-4210-AD63-62EE3FF2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091E1-662F-4F5B-9DCE-28761D5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4C659-C422-4910-8FE2-B98003B5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37B26-3E82-4238-83D9-194AEBB2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F4101-2FDB-4F74-BB2B-26D7D18E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8DE6F-875D-445C-8D05-F70A4EAB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7DE7F-D368-43F1-A8A7-3EA2249A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16458-1F8D-4A69-9AB5-011DC041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8B48E-5F32-486A-82FE-69D32F04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65DE2-8871-4792-8A7E-0DB79114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3ED68-7203-4700-A1F6-1C960C28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EF932-EF5A-4B44-9561-364D7EBA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2043C-44B8-41FA-9DAC-B3EF1FB3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5E34C-F945-4C83-92DA-CC7F9535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27E07-52A8-45FC-BC98-F7B0F758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BAF79-4CF9-46FD-A568-8FFCA58E7B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955E2-46E3-4322-90ED-EF89F6C3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494A66-6BC5-4F4D-8433-705F1309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09666-867E-45D7-8D71-62E771F9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E060C-A6CA-4828-B16E-5BF6AABB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2A41BF-AD2F-485F-8077-D18041CF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B76FC-0FF5-421F-8A9D-B0D3DC9A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E0D50F-1691-471C-9B1C-FB8B90AB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C14D5-9482-4296-9828-72CAF84B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48D86-5BE4-4BF4-A579-5378829F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9180A-5132-49D1-A0B0-4528CFD6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66C6A7-B2FE-4CB2-9F2E-6B45D304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55F2E-AACA-4B19-A903-223C36A0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4FEE9-C0E1-4EFA-9B7E-483AF41B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07D8D-20BB-41EB-B365-241583E7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2B0D5-6B38-443A-AFF3-4639922C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EC539-BCD1-4F32-B5BE-1306AB2D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E793E5-9C98-4FC8-B85B-CD85C42A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6BFA3-660E-490D-8390-1499DF07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30BB2-B66B-4784-A1B4-BE7180C8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F31B60-2B2E-4ADD-91E3-661632B6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773262-5C56-4C52-8C73-F38942F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E63B4-96F1-4022-B4BB-33EA6065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C83EF-7061-4A6C-B433-4D288DED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BBFF5F-E0FC-4112-810B-F0B1D79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74DC8-3CCB-4166-9297-00BB69AF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E37B3-6BEF-48B8-984E-FE01CD9D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A8E786-D0F9-4C3E-A235-CAB23AF4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6EF06-C38A-4240-B91D-F0BD1EED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84B168-3913-4CB6-827B-5990F9DD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A10CF-18BE-45BD-B995-33362ED5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76BF12-F89A-4382-940B-3AF9BA6C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5E6FA-57F9-4709-9AFA-E9503657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E6172-2AC3-4026-AF3D-44D3D945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AAE59-9D02-4F80-9468-1908565E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F35F9-4A6E-443D-89EA-8C0A1542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D45E38-B193-4BE6-9131-0FC03AE7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6C2B3-2CDD-4BFD-979F-DB06F28E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2DF9A5-A571-437B-A0FF-6FE0D26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C9AFD-85B2-4835-B173-EB7C82C9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172A19-8A17-4CD8-B463-CF0E94B9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388B7-3BAE-4A13-B12F-7EEF485D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46C84F-08FC-4BF3-8F83-8EE4176C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2FCE9-894B-4D94-A39C-D562794B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5559-8EA7-4FA3-AD02-16B85643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48DDC3-E555-4812-B9D4-356290DE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2FCA4-5A98-495B-BDE1-35F1B12A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B30FC-FFF2-48A2-AFD6-D6F662FA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5C067-F4E4-447B-B6F1-4A15CD08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A1277-A4F5-4CF4-AA5C-9F5A37E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44D43-93D3-47A3-935C-9C8A75DC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C47D3-7F84-438C-BC2D-3EFF9D560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906F-7CF4-4133-A9A3-09BD71649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D0B9-9F8C-467D-9BAA-DF51AE31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A0DB-4C91-43F6-88D4-F93F9135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083E-26CD-476B-87BC-1E51ECB1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C5B4-5704-4DA1-8B81-FBBE2ADB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AFFD8-B647-4762-A312-9E85DF9F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7A2E-37A6-4796-946B-51A528E3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F822-FD82-4BDB-B170-4FC8358C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C8C6-7AB5-4563-A28E-50B0D926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EC63-61C6-462A-BE77-0864EBDE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1C81-C6FF-4C91-A824-115321E7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1EBF-6AC5-4C86-836A-1B2A31CA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6193-405A-4B2B-B961-5A5C64393B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30C5B-D949-47E1-A2E3-3B1F439811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80A1-FB83-4211-B186-12364027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3826E-7BF8-40AA-894B-2F110D49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A30DD-7C94-42CC-BF17-7BABC4FD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12FCB-622E-408F-A554-1D919D23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BA3BC-59C5-478D-B6C3-5A5222A2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3499A-FF73-4006-ABB1-BDD98DCC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F90AB-468A-43DA-B57E-300FA004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6CD14-CEFB-490E-905C-5A2FB20A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7232E-2724-44DF-9EE8-BF60C405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C333A-A578-4828-B821-3E69ED19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2F0CE-2697-43BF-A6AD-F7F6BAE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6D36-14F8-4C48-B05A-9F5D1FC3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12862-13CB-400D-AEF5-672B3F2549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9B2BB6-6B76-425B-ADF0-ADB76F5C5A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FE035-4001-4CE1-A5F0-60280F60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DE1ED9-CFCC-4C2C-9D37-EFE92910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DF074A-5156-4910-9FDA-062CC648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3D6293-EDB0-4A75-9D86-E72D8DB6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ECDCF2-0CDB-4C5C-B68F-015BA201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9B91E1-EB3C-4FA7-8A36-7DFB7F5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BF78CB-B659-428C-93A1-FEAFCE7C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092F55-7943-45BB-8362-6C59246D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431C-3F89-4D8C-8C7F-F5A079CA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24E5F-FE97-4D76-91F0-8BAA2659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4D5922-AADE-43D9-8642-578A2466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C5A062-17D5-45F7-92B3-E7877A7E53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218D7-AD75-4C0F-A7A7-9CE3CD8F12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B246-7656-4E6F-A4F8-95AA3A91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75C3-3E45-49DA-9900-68F0AACB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F9E91-F798-450C-8DE1-A4822B2C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A4506-8FBE-4339-B25B-DE6C980D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3D37D-FBD2-4976-8CEC-82B9CBD2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0D66F-90CA-4A05-9A0C-B60E726C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FBB6-003E-4AB1-AD5A-7CD1B341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9535B-D533-46C5-BC16-FCC8C10E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EE89-47B4-48AF-A945-CF24E093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66138-1FB2-4178-89A0-4C0AD83D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14610-745B-42DD-9A1F-4821AFD7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35910-F351-4483-8F92-D2B6FD5A69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E6835-6DD6-4DB0-93BE-C68372F5F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BAAAF-AB62-4D72-9398-39DD90B4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146FB-1E56-4AC5-9F4F-A5CD629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81567-0383-4C3E-96D2-11535515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20D4D-50FA-4E19-99FC-DA4E0D4F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05BE-99D9-4964-8FC3-D751A256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D2ACB-7A93-4278-A5E1-896A3814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F7F84-DD1A-4461-8F2B-69FC904C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7C68B-8D8F-4476-A7EA-6B3D610C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368A4-285C-419E-BE4C-D0D06D2E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617D5-BA05-456A-B115-D714BC7B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40267A-FBE8-4214-B68A-8DF3427C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53C17-F8C9-4C7A-97BC-162157BCDE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D51DD0-FDB5-42CA-9DC5-D73DEA490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D83786-EEC2-4AE2-8252-2BAC4FCA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E9741B-8D01-4D99-9B8B-3FCF29E1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A02D-E179-4790-8998-84A1796D4A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2738-F1D2-4B61-881F-D0753090B13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F0D2-0662-4B1E-A890-E711D63A2D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8A85-3E37-499E-9969-EB8443F663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4965-A08D-4679-BB5A-4CD4BD4278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0FB0-78B3-4D5B-B5FC-2E2EDF93CE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3DBD-3CF6-4E04-B4CB-52046203BD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AC8A-E00B-408B-8CC0-7D667EF4E6A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BF14-1361-472B-94DC-942161B62A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B3BD-E68B-442D-BF8E-6CE4D07C2B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901F-01C4-44F3-8244-F48E1AC484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155D-D99F-4E24-83E8-B0349603F9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572B-52D5-48E9-A96E-AB5D45BF628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CC07-5898-49B4-9B7B-DFEAE3F5F64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7DBB-311A-4C4B-9F3D-57B713CF2E4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B323-9D87-4361-B04C-E35C0FEE69A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1C4A-1F78-4432-8998-8B6F4CEBA2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6F8D-2458-41CD-AB64-378A9D5357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B171-99EE-4F14-9457-97D961C47A8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3CCC-EFB2-4328-B9AB-42A105A841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1E92-54AA-4721-A147-D72004B9A1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BC53-9A66-48C8-B88B-BCB63D275C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D97A-0DE2-4D08-9841-B0A8133C2A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5126-2DC6-452A-842A-98B5461C51C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778040" y="2924280"/>
            <a:ext cx="5572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33360" y="286236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长 度 单 位    认 识 时 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886040" y="173052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 复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23760" y="46080"/>
            <a:ext cx="3166920" cy="525600"/>
            <a:chOff x="-23760" y="46080"/>
            <a:chExt cx="3166920" cy="525600"/>
          </a:xfrm>
        </p:grpSpPr>
        <p:pic>
          <p:nvPicPr>
            <p:cNvPr id="99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22400" y="46080"/>
              <a:ext cx="3020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23760" y="141120"/>
              <a:ext cx="419400" cy="273960"/>
              <a:chOff x="-23760" y="141120"/>
              <a:chExt cx="419400" cy="273960"/>
            </a:xfrm>
          </p:grpSpPr>
          <p:sp>
            <p:nvSpPr>
              <p:cNvPr id="1001" name="椭圆 52"/>
              <p:cNvSpPr/>
              <p:nvPr/>
            </p:nvSpPr>
            <p:spPr>
              <a:xfrm rot="16200000">
                <a:off x="216720" y="30636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5400" y="271080"/>
                <a:ext cx="21024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58"/>
              <p:cNvSpPr/>
              <p:nvPr/>
            </p:nvSpPr>
            <p:spPr>
              <a:xfrm rot="16200000">
                <a:off x="216720" y="18000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85400" y="155880"/>
                <a:ext cx="210240" cy="1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87640"/>
                <a:ext cx="34632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58840"/>
                <a:ext cx="34632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9920"/>
                <a:ext cx="34632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46320" cy="101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642960" y="2604960"/>
            <a:ext cx="82152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和厘米之间的进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）厘米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）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）厘米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）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1714680" y="3365640"/>
            <a:ext cx="92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3"/>
          <p:cNvSpPr/>
          <p:nvPr/>
        </p:nvSpPr>
        <p:spPr>
          <a:xfrm>
            <a:off x="6073920" y="33274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4"/>
          <p:cNvSpPr/>
          <p:nvPr/>
        </p:nvSpPr>
        <p:spPr>
          <a:xfrm>
            <a:off x="1712880" y="391464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5"/>
          <p:cNvSpPr/>
          <p:nvPr/>
        </p:nvSpPr>
        <p:spPr>
          <a:xfrm>
            <a:off x="6073920" y="391464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10"/>
          <p:cNvGrpSpPr/>
          <p:nvPr/>
        </p:nvGrpSpPr>
        <p:grpSpPr>
          <a:xfrm>
            <a:off x="1928880" y="1500120"/>
            <a:ext cx="3506760" cy="882720"/>
            <a:chOff x="1928880" y="1500120"/>
            <a:chExt cx="3506760" cy="882720"/>
          </a:xfrm>
        </p:grpSpPr>
        <p:sp>
          <p:nvSpPr>
            <p:cNvPr id="1015" name="AutoShape 27"/>
            <p:cNvSpPr/>
            <p:nvPr/>
          </p:nvSpPr>
          <p:spPr>
            <a:xfrm>
              <a:off x="3124440" y="1585800"/>
              <a:ext cx="2311200" cy="785880"/>
            </a:xfrm>
            <a:prstGeom prst="wedgeRoundRectCallout">
              <a:avLst>
                <a:gd name="adj1" fmla="val -63430"/>
                <a:gd name="adj2" fmla="val 1230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米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=10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厘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Picture 2" descr="D:\我的文档-桌面-收藏夹\桌面\17.jpg"/>
            <p:cNvPicPr/>
            <p:nvPr/>
          </p:nvPicPr>
          <p:blipFill>
            <a:blip r:embed="rId8"/>
            <a:stretch/>
          </p:blipFill>
          <p:spPr>
            <a:xfrm>
              <a:off x="1928880" y="1500120"/>
              <a:ext cx="822240" cy="882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矩形 1"/>
          <p:cNvSpPr/>
          <p:nvPr/>
        </p:nvSpPr>
        <p:spPr>
          <a:xfrm>
            <a:off x="0" y="1500120"/>
            <a:ext cx="98488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在括号里填上厘米或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床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 书宽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  树高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Picture 2" descr="D:\我的文档-桌面-收藏夹\桌面\201110200184599.jpg"/>
          <p:cNvPicPr/>
          <p:nvPr/>
        </p:nvPicPr>
        <p:blipFill>
          <a:blip r:embed="rId1"/>
          <a:srcRect l="0" t="12547" r="0" b="0"/>
          <a:stretch/>
        </p:blipFill>
        <p:spPr>
          <a:xfrm>
            <a:off x="142920" y="2309760"/>
            <a:ext cx="3286080" cy="21560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3" descr="D:\我的文档-桌面-收藏夹\桌面\书.jpg"/>
          <p:cNvPicPr/>
          <p:nvPr/>
        </p:nvPicPr>
        <p:blipFill>
          <a:blip r:embed="rId2"/>
          <a:stretch/>
        </p:blipFill>
        <p:spPr>
          <a:xfrm>
            <a:off x="4424400" y="2476440"/>
            <a:ext cx="1308240" cy="1149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4" descr="D:\我的文档-桌面-收藏夹\桌面\树.jpg"/>
          <p:cNvPicPr/>
          <p:nvPr/>
        </p:nvPicPr>
        <p:blipFill>
          <a:blip r:embed="rId3"/>
          <a:stretch/>
        </p:blipFill>
        <p:spPr>
          <a:xfrm>
            <a:off x="6858000" y="2000160"/>
            <a:ext cx="1770120" cy="2052720"/>
          </a:xfrm>
          <a:prstGeom prst="rect">
            <a:avLst/>
          </a:prstGeom>
          <a:ln w="0">
            <a:noFill/>
          </a:ln>
        </p:spPr>
      </p:pic>
      <p:sp>
        <p:nvSpPr>
          <p:cNvPr id="1021" name="矩形 5"/>
          <p:cNvSpPr/>
          <p:nvPr/>
        </p:nvSpPr>
        <p:spPr>
          <a:xfrm>
            <a:off x="1357200" y="453060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6"/>
          <p:cNvSpPr/>
          <p:nvPr/>
        </p:nvSpPr>
        <p:spPr>
          <a:xfrm>
            <a:off x="3000240" y="450072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7"/>
          <p:cNvSpPr/>
          <p:nvPr/>
        </p:nvSpPr>
        <p:spPr>
          <a:xfrm>
            <a:off x="5491080" y="4500720"/>
            <a:ext cx="8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8"/>
          <p:cNvSpPr/>
          <p:nvPr/>
        </p:nvSpPr>
        <p:spPr>
          <a:xfrm>
            <a:off x="8215200" y="450072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26" name="圆角矩形 47" descr=""/>
            <p:cNvPicPr/>
            <p:nvPr/>
          </p:nvPicPr>
          <p:blipFill>
            <a:blip r:embed="rId4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7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28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9" name="椭圆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6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62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66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70" descr=""/>
              <p:cNvPicPr/>
              <p:nvPr/>
            </p:nvPicPr>
            <p:blipFill>
              <a:blip r:embed="rId10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36" name="图片 2" descr=""/>
          <p:cNvPicPr/>
          <p:nvPr/>
        </p:nvPicPr>
        <p:blipFill>
          <a:blip r:embed="rId11"/>
          <a:stretch/>
        </p:blipFill>
        <p:spPr>
          <a:xfrm>
            <a:off x="4210200" y="3581280"/>
            <a:ext cx="866520" cy="9072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3" descr=""/>
          <p:cNvPicPr/>
          <p:nvPr/>
        </p:nvPicPr>
        <p:blipFill>
          <a:blip r:embed="rId12"/>
          <a:stretch/>
        </p:blipFill>
        <p:spPr>
          <a:xfrm>
            <a:off x="5484960" y="3565440"/>
            <a:ext cx="866520" cy="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3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0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41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9" name="矩形 1"/>
          <p:cNvSpPr/>
          <p:nvPr/>
        </p:nvSpPr>
        <p:spPr>
          <a:xfrm>
            <a:off x="0" y="692280"/>
            <a:ext cx="914400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将正确答案的序号填在（      ）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下面可以用来计量物体长度的单位是（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     ②角      ③分      ④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教学楼大约高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     ②厘米    ③分      ④元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一节课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 ）。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     ②分      ③元      ④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2"/>
          <p:cNvSpPr/>
          <p:nvPr/>
        </p:nvSpPr>
        <p:spPr>
          <a:xfrm>
            <a:off x="6588000" y="141300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3995640" y="256392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3059280" y="371628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组合 2"/>
          <p:cNvGrpSpPr/>
          <p:nvPr/>
        </p:nvGrpSpPr>
        <p:grpSpPr>
          <a:xfrm>
            <a:off x="-23760" y="46080"/>
            <a:ext cx="2843280" cy="525600"/>
            <a:chOff x="-23760" y="46080"/>
            <a:chExt cx="2843280" cy="525600"/>
          </a:xfrm>
        </p:grpSpPr>
        <p:pic>
          <p:nvPicPr>
            <p:cNvPr id="1054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04760" y="46080"/>
              <a:ext cx="2714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5" name="组合 4"/>
            <p:cNvGrpSpPr/>
            <p:nvPr/>
          </p:nvGrpSpPr>
          <p:grpSpPr>
            <a:xfrm>
              <a:off x="-23760" y="141120"/>
              <a:ext cx="375480" cy="273960"/>
              <a:chOff x="-23760" y="141120"/>
              <a:chExt cx="375480" cy="273960"/>
            </a:xfrm>
          </p:grpSpPr>
          <p:sp>
            <p:nvSpPr>
              <p:cNvPr id="1056" name="椭圆 52"/>
              <p:cNvSpPr/>
              <p:nvPr/>
            </p:nvSpPr>
            <p:spPr>
              <a:xfrm rot="16200000">
                <a:off x="207000" y="30960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49040" y="282960"/>
                <a:ext cx="202680" cy="12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椭圆 58"/>
              <p:cNvSpPr/>
              <p:nvPr/>
            </p:nvSpPr>
            <p:spPr>
              <a:xfrm rot="16200000">
                <a:off x="207000" y="18576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49040" y="157320"/>
                <a:ext cx="202680" cy="12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0960"/>
                <a:ext cx="30420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69640"/>
                <a:ext cx="30420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440"/>
                <a:ext cx="30420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04200" cy="111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4" name="矩形 2"/>
          <p:cNvSpPr/>
          <p:nvPr/>
        </p:nvSpPr>
        <p:spPr>
          <a:xfrm>
            <a:off x="324000" y="1052640"/>
            <a:ext cx="36432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读出下面的时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3" descr=""/>
          <p:cNvPicPr/>
          <p:nvPr/>
        </p:nvPicPr>
        <p:blipFill>
          <a:blip r:embed="rId8"/>
          <a:stretch/>
        </p:blipFill>
        <p:spPr>
          <a:xfrm>
            <a:off x="250920" y="1555920"/>
            <a:ext cx="8643960" cy="2887560"/>
          </a:xfrm>
          <a:prstGeom prst="rect">
            <a:avLst/>
          </a:prstGeom>
          <a:ln w="0">
            <a:noFill/>
          </a:ln>
        </p:spPr>
      </p:pic>
      <p:sp>
        <p:nvSpPr>
          <p:cNvPr id="1066" name="矩形 4"/>
          <p:cNvSpPr/>
          <p:nvPr/>
        </p:nvSpPr>
        <p:spPr>
          <a:xfrm>
            <a:off x="755640" y="422100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:0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5"/>
          <p:cNvSpPr/>
          <p:nvPr/>
        </p:nvSpPr>
        <p:spPr>
          <a:xfrm>
            <a:off x="3132000" y="4292640"/>
            <a:ext cx="114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6"/>
          <p:cNvSpPr/>
          <p:nvPr/>
        </p:nvSpPr>
        <p:spPr>
          <a:xfrm>
            <a:off x="5292720" y="4292640"/>
            <a:ext cx="1204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7"/>
          <p:cNvSpPr/>
          <p:nvPr/>
        </p:nvSpPr>
        <p:spPr>
          <a:xfrm>
            <a:off x="7380360" y="4292640"/>
            <a:ext cx="121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组合 2"/>
          <p:cNvGrpSpPr/>
          <p:nvPr/>
        </p:nvGrpSpPr>
        <p:grpSpPr>
          <a:xfrm>
            <a:off x="-23760" y="46080"/>
            <a:ext cx="2824200" cy="525600"/>
            <a:chOff x="-23760" y="46080"/>
            <a:chExt cx="2824200" cy="525600"/>
          </a:xfrm>
        </p:grpSpPr>
        <p:pic>
          <p:nvPicPr>
            <p:cNvPr id="1071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03680" y="46080"/>
              <a:ext cx="2696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2" name="组合 4"/>
            <p:cNvGrpSpPr/>
            <p:nvPr/>
          </p:nvGrpSpPr>
          <p:grpSpPr>
            <a:xfrm>
              <a:off x="-23760" y="141120"/>
              <a:ext cx="372960" cy="273960"/>
              <a:chOff x="-23760" y="141120"/>
              <a:chExt cx="372960" cy="273960"/>
            </a:xfrm>
          </p:grpSpPr>
          <p:sp>
            <p:nvSpPr>
              <p:cNvPr id="1073" name="椭圆 52"/>
              <p:cNvSpPr/>
              <p:nvPr/>
            </p:nvSpPr>
            <p:spPr>
              <a:xfrm rot="16200000">
                <a:off x="206640" y="30960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80" y="283680"/>
                <a:ext cx="20232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椭圆 58"/>
              <p:cNvSpPr/>
              <p:nvPr/>
            </p:nvSpPr>
            <p:spPr>
              <a:xfrm rot="16200000">
                <a:off x="206640" y="18612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6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880" y="157320"/>
                <a:ext cx="20232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1680"/>
                <a:ext cx="302040" cy="11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0000"/>
                <a:ext cx="302040" cy="11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440"/>
                <a:ext cx="302040" cy="11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02040" cy="111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1" name="矩形 1"/>
          <p:cNvSpPr/>
          <p:nvPr/>
        </p:nvSpPr>
        <p:spPr>
          <a:xfrm>
            <a:off x="395280" y="1341360"/>
            <a:ext cx="36432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写出下面的时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3" descr="D:\我的文档-桌面-收藏夹\桌面\1.tif"/>
          <p:cNvPicPr/>
          <p:nvPr/>
        </p:nvPicPr>
        <p:blipFill>
          <a:blip r:embed="rId8"/>
          <a:srcRect l="0" t="0" r="0" b="11217"/>
          <a:stretch/>
        </p:blipFill>
        <p:spPr>
          <a:xfrm>
            <a:off x="611280" y="2205000"/>
            <a:ext cx="8042040" cy="2536920"/>
          </a:xfrm>
          <a:prstGeom prst="rect">
            <a:avLst/>
          </a:prstGeom>
          <a:ln w="0">
            <a:noFill/>
          </a:ln>
        </p:spPr>
      </p:pic>
      <p:sp>
        <p:nvSpPr>
          <p:cNvPr id="1083" name="矩形 5"/>
          <p:cNvSpPr/>
          <p:nvPr/>
        </p:nvSpPr>
        <p:spPr>
          <a:xfrm>
            <a:off x="826920" y="3860640"/>
            <a:ext cx="127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7"/>
          <p:cNvSpPr/>
          <p:nvPr/>
        </p:nvSpPr>
        <p:spPr>
          <a:xfrm>
            <a:off x="2987640" y="3860640"/>
            <a:ext cx="131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8"/>
          <p:cNvSpPr/>
          <p:nvPr/>
        </p:nvSpPr>
        <p:spPr>
          <a:xfrm>
            <a:off x="5292720" y="3860640"/>
            <a:ext cx="11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9"/>
          <p:cNvSpPr/>
          <p:nvPr/>
        </p:nvSpPr>
        <p:spPr>
          <a:xfrm>
            <a:off x="7380360" y="3860640"/>
            <a:ext cx="1274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9:14:00Z</dcterms:created>
  <dc:creator/>
  <dc:description/>
  <dc:language>en-US</dc:language>
  <cp:lastModifiedBy>万润仪器贸易公司</cp:lastModifiedBy>
  <dcterms:modified xsi:type="dcterms:W3CDTF">2020-08-21T00:45:32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